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7BA-1BBC-4757-A176-FD89DF3F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850-434D-43D4-88FD-EBE271A9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EEC-05E6-4963-A081-5A7CD355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096-1B82-462B-A81E-E1CFAF32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DBC-7FB1-4CFC-8E25-9C4CCC07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352-E0B2-4576-BF14-E0C886F5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D46-FC59-43CD-AB35-5F454672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6A3-51DC-4B3F-BA27-C206CC8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4BA-7E77-4E12-ACB1-FA2F3EDD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299-E72D-49F3-BE96-1FE5AC9C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41A-F671-4A52-8DA5-8AC20B8C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A05-E0EA-4056-963E-DB9C455D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527400" indent="-2026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2" marL="811440" indent="-16200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3" marL="1135800" indent="-1620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4" marL="1460520" indent="-162000">
              <a:spcBef>
                <a:spcPts val="799"/>
              </a:spcBef>
              <a:buClr>
                <a:srgbClr val="3333cc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5520" y="5891040"/>
            <a:ext cx="8836200" cy="835200"/>
            <a:chOff x="155520" y="5891040"/>
            <a:chExt cx="8836200" cy="8352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55520" y="5891040"/>
              <a:ext cx="14446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1523880" y="6670800"/>
              <a:ext cx="7467840" cy="0"/>
            </a:xfrm>
            <a:prstGeom prst="line">
              <a:avLst/>
            </a:prstGeom>
            <a:ln w="19080">
              <a:solidFill>
                <a:srgbClr val="0080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7360" y="6618240"/>
            <a:ext cx="50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ahoma"/>
              </a:rPr>
              <a:t>Copyright © 2003 Center for Farm Financial Management, University of Minneso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705720" y="5943600"/>
            <a:ext cx="21333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0712-3649-4A22-B9AD-C46CC14C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lender wants to know if your business will be financially successful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91600" y="373392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spouse wants to know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snapshot of how funds are invested in a business (assets) and the financing methods used (liabilities and owner’s equity) at a given point i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existing balance sheet because lenders require one annually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balance sheet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income statement measures how much income the business is making in relation to the resources used to produce that inco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Not all producers have an accrual income statemen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hould develop one for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an use FINPACK or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cash flow plan is a projection of all sources and uses of cash during a specified planning perio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t evaluates the business’s ability to meet loan payments and other financial obligations o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annual cash flow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cash flow plan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clude a balance sheet, income statement, and cash flow plan in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0816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written description of the strengths of these three measurements of your financial projections should also be include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lso describe the assumptions you used to make your financial projection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Your Financial Number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enerating your financial statements from  a program like FINPACK will make development of your business plan easier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provides not only a balance sheet, income statement, and cash flow, but also financial ratios to help evaluate the meaning of your financial number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financial plan should also describe how you acquire and manage capital assets - purchase, lease, or custom hir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How efficiently are assets being used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 many cases, the financial plan is the most important part of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ncial plan is particularly important if you are proposing a major change or a new busines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analysis of your investment in capital assets relative to the size of your business may be valuable as you plan the future of your business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sset management is often the best indicator of future net worth growth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pital Requir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l part of your financial plan should describe how much money you need to implement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Describe the sources of your financing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esent your financing request if you have on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uide worksheet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– worksheet 4.35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 - worksheet 4.33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– worksheet 4.34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Business Plan software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sset manageme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ong range projection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Historical trend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pital required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What do you need to include in your business plan to communicate financial viability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ancial viability is generally evaluated from three perspectives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olvency evaluates changes in net worth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wth in your retirement accou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ofitability monitor earning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bility to generate incom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Liquidity estimates cash flow and debt repayment ability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aying the bills when du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olvenc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ompares the assets invested (what you own) in the business with the sources of capital (liabilities – what you owe and your net worth)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up to date balance shee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fita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earnings of the busines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accrual income statemen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Optionally use average net income from 3 years Schedule F tax form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quid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ability of the business to generate cash to meet short term obligation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 cash flow statement, usually projected for next year or more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tools used to communicate a  business’s financial situation are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- 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Income statement -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plan – 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0:27:03Z</dcterms:created>
  <dc:creator>Applied Economics</dc:creator>
  <dc:description/>
  <dc:language>en-US</dc:language>
  <cp:lastModifiedBy>M S O</cp:lastModifiedBy>
  <cp:lastPrinted>2001-06-07T14:32:23Z</cp:lastPrinted>
  <dcterms:modified xsi:type="dcterms:W3CDTF">2008-10-19T18:36:21Z</dcterms:modified>
  <cp:revision>193</cp:revision>
  <dc:subject/>
  <dc:title>No Slide Title</dc:title>
</cp:coreProperties>
</file>